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0.xml.rels" ContentType="application/vnd.openxmlformats-package.relationships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25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019AE-F6A4-45A5-BD9E-ECC29D5D6670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4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F9A99-55E3-426D-A92D-64CD752EFF02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87417B-44C6-45A5-9E1B-0DDF4CF4263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E335A9-F8D1-4BEB-86B4-67CAA6DE5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DB03A2-4050-4A8F-8216-120AF06D5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DF3493-9057-44C3-82A5-67B00B1EB83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1F1137-7485-4E5D-B99F-8D2C6CD88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1777D6-CFF8-49D3-8C6B-DE95CB92C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AB83DB-0C18-47DF-AE3A-29BF3421D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629BA1-AF25-4C33-AEED-56A27FD40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9D0C81-3D59-4F0F-AE10-051CC37EA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ECE4B9-9A08-414B-8BDA-5DC262175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A3BCA1-D9BF-4230-83DD-CCEB1837D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2EBB2C-5197-4B99-8CCE-6F0EED636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462C3-1A2A-4FB9-96DA-F588F57365CD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六章  围术期患者的护理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前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前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焦虑、恐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担心麻醉或手术出现意外、术后效果不好、住院费用高等有关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睡眠型态紊乱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住院环境不适应、担心手术效果及疾病预后有关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失调（低于机体需要量）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营养摄入不足或分解代谢增强、疾病消耗等有关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液不足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所致的体液丢失、液体摄入不足等有关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前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一般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和休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协助术前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适应性训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道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肠道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术后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前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一般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区皮肤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清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备皮：备皮范围包括切口周围至少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5c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区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日晨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前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68520" indent="-2570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特殊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28520" indent="-205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症手术患者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28520" indent="-205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血管疾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28520" indent="-205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不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28520" indent="-205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功能障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28520" indent="-205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肝疾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28520" indent="-205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肾疾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28520" indent="-205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糖尿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28520" indent="-205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妊娠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手术室的布局与环境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手术室位置和布局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位置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布局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非洁净区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准洁净区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洁净区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建筑要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手术室的布局与环境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手术间装备与设施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间内只放置必需用物且位置固定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洁净手术室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空气净化技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洁净手术室的净化标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洁净手术室适用范围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手术室的布局与环境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手术室环境管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室管理制度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清洁与消毒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常用手术物品的准备与消毒灭菌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布单类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布单类均采用高压蒸汽灭菌，保存时间夏季为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，冬季为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4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，过期要重新灭菌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敷料类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识记：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列举手术的分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描述围术期、围术期护理的概念和手术室布局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列出术后常见并发症及观察要点和常用手术体位及适应范围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复述手术室环境和消毒方法及手术室管理制度、手术室护士的工作内容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常用手术物品的准备与消毒灭菌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器械类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基本器械，采用高压蒸汽灭菌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精密仪器首选环氧乙烷灭菌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缝针及缝线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室常用的缝针及缝线多在出厂时已分别包装并灭菌，术中直接使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常用手术物品的准备与消毒灭菌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引流物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管状引流管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乳胶片引流条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纱布引流条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手术患者的准备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83280" indent="-26280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信息核对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683280" indent="-26280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683280" indent="-26280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手术体位准备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51560" indent="-21024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仰卧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51560" indent="-21024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侧卧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51560" indent="-21024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膀胱截石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51560" indent="-21024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俯卧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51560" indent="-21024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半坐卧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手术患者的准备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手术区皮肤消毒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消毒方法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0.5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碘伏纱块涂擦手术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碘过敏者可选用其他皮肤消毒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消毒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以切口为中心向四周涂擦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0c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的区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若为肛门、会阴部手术或感染切口，则自手术区外周向感染切口、会阴或肛门处涂擦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手术患者的准备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手术区铺单方法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铺皮肤巾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用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块无菌巾遮盖切口周围，又称切口巾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铺手术中单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将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块无菌中单分别铺在切口的上、下方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铺手术洞单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手术人员的准备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一般准备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外科手消毒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外科手消毒是指手术人员通过机械性洗刷及化学消毒方法，去除并杀灭双手及前臂的暂居菌和部分常驻菌，达到消毒皮肤目的，通常也称为外科洗手法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肥皂水刷手法和外科手消毒揉搓法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手术人员的准备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穿无菌手术衣法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穿对开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衣法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3" name="Picture 2" descr=""/>
          <p:cNvPicPr/>
          <p:nvPr/>
        </p:nvPicPr>
        <p:blipFill>
          <a:blip r:embed="rId1"/>
          <a:stretch/>
        </p:blipFill>
        <p:spPr>
          <a:xfrm>
            <a:off x="3651120" y="2619360"/>
            <a:ext cx="5486400" cy="42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手术人员的准备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穿无菌手术衣法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全遮盖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衣穿法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7" name="Picture 2" descr=""/>
          <p:cNvPicPr/>
          <p:nvPr/>
        </p:nvPicPr>
        <p:blipFill>
          <a:blip r:embed="rId1"/>
          <a:stretch/>
        </p:blipFill>
        <p:spPr>
          <a:xfrm>
            <a:off x="3876840" y="2752560"/>
            <a:ext cx="526716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手术人员的准备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戴无菌手套法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闭合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1" name="Picture 2" descr=""/>
          <p:cNvPicPr/>
          <p:nvPr/>
        </p:nvPicPr>
        <p:blipFill>
          <a:blip r:embed="rId1"/>
          <a:stretch/>
        </p:blipFill>
        <p:spPr>
          <a:xfrm>
            <a:off x="1716120" y="3429000"/>
            <a:ext cx="7103880" cy="30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手术人员的准备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戴无菌手套法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开放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5" name="Picture 2" descr=""/>
          <p:cNvPicPr/>
          <p:nvPr/>
        </p:nvPicPr>
        <p:blipFill>
          <a:blip r:embed="rId1"/>
          <a:stretch/>
        </p:blipFill>
        <p:spPr>
          <a:xfrm>
            <a:off x="3203640" y="3157560"/>
            <a:ext cx="585936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理解：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比较不同级别洁净手术室的净化标准和适用范围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2400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手术人员的准备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脱手术衣及手套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脱手术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由他人协助脱手术衣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自行脱手术衣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脱手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戴手套的手抓取另一手的手套外面，翻转脱下；用已脱手套的拇指伸入另一手套的里面，翻转脱下。注意保护清洁的手不被手套外面污染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手术配合及术中无菌操作原则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手术配合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器械护士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提前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5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钟洗手、穿手术衣和戴无菌手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清点核对物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正确传递用物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保护器械和用物整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配合抢救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标本管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包扎和整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手术配合及术中无菌操作原则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手术配合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巡回护士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前访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前物品准备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核对患者信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安置体位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清点核对物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中配合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后整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手术配合及术中无菌操作原则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中无菌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明确无菌范围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保持物品无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保护皮肤切口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准确传递物品和调换位置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沾染手术的隔离技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减少空气污染、保持洁净效果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手术配合及术中无菌操作原则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无菌器械台的准备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巡回护士用手打开第一层包布（双层），注意只能接触包布的外面，从里向外展开，手臂不可跨越无菌区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用无菌持物钳打开第二层包布，先对侧后近侧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器械护士穿好无菌手术衣和戴好无菌手套后，用手打开第三层包布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60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评估患者术后恢复情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生命体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切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引流管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并发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疼痛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手术创伤、特殊体位等因素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（有）体液不足（的危险）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术中出血、失液或术后禁食、呕吐、引流等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低效性呼吸型态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手术后卧床、活动量减少、切口疼痛、呼吸运动受限、使用镇静剂等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（进食、如厕、卫生）自理缺陷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术后疼痛、虚弱、活动受限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清理呼吸道无效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痰液黏稠、切口疼痛、不能有效咳嗽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营养失调（低于机体需要量）　与禁食、创伤后机体代谢率增高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术后出血、切口感染、切口裂开、肺部感染、泌尿系统感染、深静脉血栓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运用：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完成术前的特殊准备和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按照无菌操作要求，正确行外科手消毒、穿脱无菌手术衣和戴无菌手套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所学的知识，对手术室不同类型物品选择合适的消毒灭菌方法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对手术后常见并发症进行正确预防和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体位护理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根据麻醉方式、患者全身情况、手术方式、疾病性质等选择卧位，使患者处于舒适和便于活动的体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生命体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监护指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并发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饮食护理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非腹部手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一般先进流质，后逐步过渡到半流质、普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腹部手术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胃肠道手术后一般禁食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，待肠蠕动恢复、肛门排气后开始进水，逐步过渡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静脉补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手术切口护理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切口的愈合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甲级愈合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乙级愈合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丙级愈合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静脉补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手术切口护理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拆除缝线时间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一般头、面、颈部手术后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拆线；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下腹部、会阴部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拆线；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胸部、上腹部、背部、臀部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9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拆线；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四肢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拆线（近关节处可适当延长），减张缝线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拆线，必要时可间隔拆线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引流管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妥善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记录引流液颜色、性质、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引流管通畅，无打折、扭曲、堵塞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熟悉各种引流管的拔管指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休息与活动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休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保持病房安静，保证患者休息和充足的睡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活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情许可下尽量鼓励患者早期下床活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常见不适的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切口疼痛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遵医嘱给予镇静、止痛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协助患者更换体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鼓励患者表达内心焦虑情绪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指导患者正确按摩、放松、听音乐等非药物止痛方法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常见不适的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恶心、呕吐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记录呕吐时间及呕吐物的量、颜色、性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协助取合适体位，头偏向一侧，防止发生吸入性肺炎或窒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遵医嘱使用镇静、镇吐药物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常见不适的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咽喉部不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遵医嘱行地塞米松雾化吸入每日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，减轻局部黏膜水肿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发热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术后患者最常见的症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外科手术热（吸收热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常见不适的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腹胀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鼓励患者多翻身、尽早下床活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必要时肌注新斯的明促进肠蠕动恢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警惕机械性肠梗阻等并发症出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六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围术期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围术期（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perioperative period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）是指患者从确定手术治疗时起，到与这次手术有关的治疗基本结束的这段时期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手术前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手术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手术后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常见不适的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呃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压迫眶上缘、抽吸胃内积气和积液、遵医嘱给予镇静或解痉药物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顽固性呃逆应警惕吻合口或十二指肠残端漏、膈下积液或感染的可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常见不适的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尿潴留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诱导排尿，如听流水声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协助改变体位坐于床边或站立排尿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遵医嘱应用药物、针灸等治疗方法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如上述措施均无效时，在无菌操作下实施导尿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并发症的观察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出血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常发生在术后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4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8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小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检查切口敷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严密观察生命体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观察患者有无烦躁、心率增快、血压下降、尿量减少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并发症的观察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切口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前控制血糖水平、纠正贫血、加强营养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缝合时彻底止血、防止残留血块、异物或无效腔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中操作及术后换药时严格执行无菌操作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早期切口感染者，勤换敷料、微波照射切口、合理使用抗生素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并发症的观察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切口裂开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手术前加强营养支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手术缝合用减张缝线，术后延长拆线时间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在麻醉效果好、腹壁松弛下缝合切口避免强行缝合导致腹膜等组织撕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切口外适当用腹带或胸带包扎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及时处理引起腹内压增高的因素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密切观察切口情况，预防切口感染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若切口完全裂开者，安慰患者做好心理护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并发症的观察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肺部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前戒烟，行有效咳嗽及深呼吸锻炼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全麻手术拔管前吸净支气管内分泌物，术后平卧头偏向一侧，防呕吐物和口腔分泌物误吸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胸、腹带包扎或固定时，松紧适宜避免限制呼吸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保持病室适宜温、湿度，鼓励患者多饮水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鼓励患者深呼吸、吹气球或咳嗽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对咳嗽无力或害怕用力咳嗽者，在胸骨切迹上方用手指按压刺激气管，促进咳嗽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250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并发症的观察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尿路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前训练床上排便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后指导患者尽量自主排尿和病情许可时多饮水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尽早拔出留置导尿管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预防和及时处理尿潴留是预防尿路感染的主要措施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对尿路感染者，鼓励多饮水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250920" y="112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05600" indent="-2714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并发症的观察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85760" indent="-217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深静脉血栓形成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eep venous thrombosi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V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19920" indent="-21708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情许可下，鼓励患者早期下床活动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19920" indent="-21708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高危患者，下肢用弹性绷带或穿弹力袜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19920" indent="-21708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避免久坐和跷二郎腿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19920" indent="-21708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使用高渗性或刺激性强的药物应稀释后输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19920" indent="-21708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血液高凝状态者，给予抗凝药物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19920" indent="-21708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若发生深静脉血栓者，患肢制动、抬高、禁止按摩、遵医嘱行溶栓治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19920" indent="-21708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250920" y="1268280"/>
            <a:ext cx="861048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饮食与营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鼓励患者多食易消化、高热量、高蛋白、高维生素、富含膳食纤维的食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休息与活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证充足睡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根据病情和患者耐受程度循序渐进地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50920" y="1268280"/>
            <a:ext cx="861048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76080" indent="-2599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康复锻炼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455840" indent="-20772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告知患者锻炼知识和指导术后锻炼的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用药指导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455840" indent="-20772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指导患者遵医嘱按时、按量服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复诊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455840" indent="-20772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般患者在术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个月到门诊复诊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455840" indent="-20772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如有特殊情况，及时到医院就诊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六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围术期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围术期护理（</a:t>
            </a:r>
            <a:r>
              <a:rPr b="1" lang="en-US" sz="3600" spc="-1" strike="noStrike">
                <a:solidFill>
                  <a:srgbClr val="046ca6"/>
                </a:solidFill>
                <a:latin typeface="华文新魏"/>
              </a:rPr>
              <a:t>perioperative nursing car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指在围术期为患者提供全程、整体的护理。其目的是加强术前、术后整个治疗过程中患者的身心护理，通过充分的术前准备、有效的护理措施和患者的积极配合，达到满意的治疗效果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分为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类：择期手术、限期手术、急症手术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择期手术前准备 心理护理；维持体液与营养平衡；保证睡眠和休息；作好术前的常规准备（呼吸道准备、胃肠道准备、备皮、配血、药物过敏试验、术前训练等）；术日晨护理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急症手术前准备  密切观察病情变化；快速备皮、备血、药物过敏试验、术前用药等；纠正水、电解质和酸碱失衡；给休克者建立静脉输液通道；胃肠道梗阻者，禁饮食、胃肠减压；有感染者遵医嘱应用抗生素；术前不灌肠、不用泻剂；做好患者和家属的心理护理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室护理工作 手术室是患者进行手术的重要场所，其布局、设置、分区（非洁净区、准洁净区、洁净区）合理。有严格的手术室管理和消毒灭菌制度。强调手术人员必须进行严格的外科手消毒、穿无菌手术衣、戴无菌手套方可为患者进行手术。术前要认真核对患者各项信息如科室、床位、姓名、性别、年龄、住院号、手术部位、手术名称等，检查术前准备是否完善。手术室器械护士和巡回护士做好手术配合及术中无菌操作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安置患者合适的体位；病情观察；维持体液与营养平衡；加强切口和引流的护理；术后常见不适如切口疼痛、恶心、呕吐、咽喉部不适、发热、腹胀、呃逆、尿潴留进行护理。重点是对术后常见并发症如出血、切口感染、切口裂开、肺部、尿路感染、深静脉血栓形成等并发症的预防和对症处理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思考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7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入院诊断为急性肠梗阻，既往有糖尿病、高血压病史，测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 38.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 7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R 25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P 165/92mmH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S 13.6mmol/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入院当日即在全麻下行剖腹探查术，术后第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，用力咳嗽咳痰时，突然发生腹部切口裂开，患者感到切口剧烈疼痛和松开感，随即发现肠管外露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请问：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患者发生切口裂开的主要原因是什么？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如何处理此种情况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解析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为老年人且血糖较高和发热，因糖尿病患者在整个围术期机体均处于应激状态，血糖高时易发生切口感染，影响伤口愈合。另外患者突然用力咳嗽咳痰使腹压增加而导致切口裂开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安慰患者及家属，同时做好心理护理，使其保持镇静，立即用无菌生理盐水纱布覆盖切口和腹带包扎，通知医师重新缝合处理切口。若有肠管脱出，不能直接将肠管还纳，以免造成腹腔内感染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. 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巡回护士和器械护士共同清点核对各种器械、敷料和缝针等数量，下列说法错误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手术开始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手术开始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中关闭体腔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缝合切口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清点目的是防止遗留体腔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首选环氧乙烷方法灭菌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金属器械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布类物品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搪瓷器皿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内镜类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手术刀片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手术人员穿好手术衣、戴好无菌手套后，双手应保持在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视线范围内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胸前、双肘内收靠近体侧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交叉腋下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高举头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腰部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手术区备皮范围应包括切口周围区域至少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 10cm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12cm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13cm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14cm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15cm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六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围术期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手术类型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择期手术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限期手术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急症手术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无菌包在备用、未污染和干燥条件下，有效期为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7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1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7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8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9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手术室的洁净区不包括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无菌物品间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手术间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药品间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器械间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麻醉准备室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下列手术摆放体位时不能选择膀胱截石位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肛门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会阴部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直肠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尿道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肾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8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某患者行疝修补术后第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天，体温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37.8℃,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正确的处理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嘱患者大量饮水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给予药物降温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乙醇擦浴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冰敷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无需特殊处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9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胃肠道手术后患者开始进食的时间是在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恶心呕吐消失后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腹痛消失后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腹胀消失后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肛门排气后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拆线后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某患者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7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岁，有吸烟史，行膝关节置换术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，自觉患侧小腿肌肉疼痛，并有轻度肿胀，查体腓肠肌挤压试验阳性，此时应考虑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输液外渗   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静脉炎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低蛋白水肿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下肢静脉血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手术创伤所致水肿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1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手术后发生下肢静脉血栓，处理措施不正确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立即停止患肢静脉输液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抬高患肢、制动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局部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50%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硫酸镁湿敷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局部热敷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应用抗凝药和溶栓药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男性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岁。因行十二指肠球部溃疡穿孔行修补术。术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8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小时，已排尿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次，但每次尿量少，为数毫升。该患者可能出现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尿频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尿潴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尿失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尿路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肾积水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参考答案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.B   2.D  3.B  4.E  5.C  6.D   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7.E   8.D  9.D  10.D   11.D   12.B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60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6000" spc="-1" strike="noStrike">
                <a:solidFill>
                  <a:srgbClr val="ffffff"/>
                </a:solidFill>
                <a:latin typeface="华文新魏"/>
              </a:rPr>
              <a:t>手术前患者的护理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63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岁，高血压病史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年。上腹不适、隐痛、反酸、食欲下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年，近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个月出现消瘦、体重明显减轻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体检：上腹可触及结节状肿块，质地较硬有压痛，左锁骨上触及肿大淋巴结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纤维胃镜：胃癌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的护理评估内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4-20T14:18:18Z</dcterms:modified>
  <cp:revision>92</cp:revision>
  <dc:subject/>
  <dc:title>内科护理学</dc:title>
</cp:coreProperties>
</file>